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972C-4100-4E0C-A511-428B9FBC5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picyc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retrograde (westward) 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plane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tolemaic syst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as considered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standard model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the Universe until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A24-332F-4621-B805-1A3BD01C8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t the time of Ptolemy, the introduction of epicycle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was considered a very elegant idea because 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31E0-9C2F-4372-80CF-042B37F767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EC63-850D-4ADF-A9D7-42AB1607A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 (and correct) explanation f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Retrogra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westward)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motion of a planet occu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r retrograde motion of the planet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tolemy’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picy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unnecessary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scribed in Copernicus’ famous book “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e Revolutionibus Orbium Coelestium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03F-2113-4A38-80DE-48891487E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In the Copernikan “Universe”, the orbits of pl</a:t>
            </a:r>
            <a:br>
              <a:rPr sz="1200"/>
            </a:b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nets and moons were …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7716-CD0B-4B5B-BD76-8D130D1640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Tycho Brahe (1546 – 1601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udy planetary motion mathematicall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onsistent descri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abandon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elliptical path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ith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non-uniform velo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979B-2CD4-4FF1-8396-47227C3136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llipse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ocus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D85-39E1-4F07-80BD-F1063C0FD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5BF8-61D4-47C8-AB8B-8D052C14A0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en did mankind first become interested in the science of astronomy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advent of modern computer technology (mid-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development of the theory of relativity (early 20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B174-05D0-4880-A27F-4DAB79DC1F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Eccentricities 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s of planets are virtually indistinguishable from circles</a:t>
            </a: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8C2B-7EC7-4C56-A039-78E76680C0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ine from a planet to the sun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DD6-17DA-49E9-B037-2501B69E47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Are all four seasons equally long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764A-4A6C-45AB-9267-A2F70D1DA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the summer longer than winter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of the moon’s 5</a:t>
            </a:r>
            <a:r>
              <a:rPr b="0" lang="en-US" sz="1200" spc="-1" strike="noStrike" baseline="30000">
                <a:solidFill>
                  <a:srgbClr val="ffff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rotating around its axis more slowly in the summer (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→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2D95-1206-48E6-87E0-6CD1C60F2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 planet’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orbital period (P) squar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is proportional to its averag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stance from the sun (a) cubed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P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y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= period in years; a</a:t>
            </a:r>
            <a:r>
              <a:rPr b="0" lang="en-US" sz="1200" spc="-1" strike="noStrike" baseline="-25000">
                <a:solidFill>
                  <a:srgbClr val="c0504d"/>
                </a:solidFill>
                <a:latin typeface="Calibri"/>
              </a:rPr>
              <a:t>AU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known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→ Calculate 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AU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= P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1200" spc="-1" strike="noStrike" baseline="30000">
                <a:solidFill>
                  <a:srgbClr val="ff0000"/>
                </a:solidFill>
                <a:latin typeface="Calibri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Average distance to the sun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a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, known → Calculate orbital perio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P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24F8-0A00-4B3A-90F8-020AD0F11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F92-030B-4263-8556-957467D813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DC70-99A5-4363-B33F-DEBE4D22B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tone and bronze 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ating back to ~ 3000 B.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show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lignments with astronomical signific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even to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predict eclip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530-9E86-4AD6-96F4-5FA9284C5F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 and Acceleration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 (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body’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velocity (v) with time (t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Velo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ed quanti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Acceleration in the conventional sen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i.e. incr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speed)</a:t>
            </a:r>
            <a:br>
              <a:rPr sz="1200"/>
            </a:b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Decele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hange of th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206F-034C-40C9-AD07-C5D0D6413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31B1-9F59-43E1-8272-F4475DA7B8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cceler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 body i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verse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ass 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directly propor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et force 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in the same dir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3E1-25C0-49E7-AFC8-1F522E2CA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Newton’s Laws of Motion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very 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there is a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equal and opposite rea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AE54-2264-4369-80E9-C0E200D1D7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The Universal Law of Gra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force proportional to the product of their masses and inversely proportional to the square of their dis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2F3-A5AA-46A7-80F5-0A963EA7F2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According to Newton’s universal law of gravity, the sun is attracting the Earth with a force of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3.6*10</a:t>
            </a:r>
            <a:r>
              <a:rPr b="0" lang="en-US" sz="1200" spc="-1" strike="noStrike" u="sng" baseline="30000">
                <a:solidFill>
                  <a:srgbClr val="ffff00"/>
                </a:solidFill>
                <a:uFillTx/>
                <a:latin typeface="Calibri"/>
              </a:rPr>
              <a:t>22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 N.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CC3-6790-4883-8E65-94CFB4D67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633-E124-4FD5-AB23-D8F073C69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Stonehenge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942-B9B7-4ADE-9339-73968597DB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7FF-7F4A-40A0-9E21-1A36EBBF3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0504d"/>
                </a:solidFill>
                <a:uFillTx/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CFC7-64FD-4552-A9E8-FA090A534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Why is it so difficult to find out about the state of astronomical knowledge of bronze-age civilizations?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059-A28B-46E6-A3E8-5B26231C1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unpro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first principles”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. Geocentric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t the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Center of the “Universe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. “Perfect Heavens”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motions of all celestial bodies can be described by motions involving objects of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“perfect” sha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.e.,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pheres or circ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B4FF-11BD-4341-BEC2-8CFF0FD5A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42D-2AE2-4B42-94D2-043085A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68F-13C0-4F16-AAED-3EBB550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1E7-C090-4192-B5FF-7B68ACFB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9FD-8AEC-4086-A06B-A89E4A93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583-291A-49F4-8A5F-2E6E1C3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30A-CE3B-4B9F-979C-C9BCABD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79B-790C-4C8A-9B4C-7665C28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E31-E2AC-4246-B73E-0D19341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278-B353-46DC-92B0-699D160D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9F7-6544-4D7B-9AD4-2A218556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E20-5659-4D3D-A3C7-316462F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E77-708F-41DF-8A82-D00DC261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A819-263C-4141-A495-AC51BED0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ext Box 6" descr=""/>
          <p:cNvPicPr/>
          <p:nvPr/>
        </p:nvPicPr>
        <p:blipFill>
          <a:blip r:embed="rId1"/>
          <a:stretch/>
        </p:blipFill>
        <p:spPr>
          <a:xfrm>
            <a:off x="993600" y="1847880"/>
            <a:ext cx="7882200" cy="159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20a"/>
          <p:cNvPicPr/>
          <p:nvPr/>
        </p:nvPicPr>
        <p:blipFill>
          <a:blip r:embed="rId2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3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621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ectangle 6" descr=""/>
          <p:cNvPicPr/>
          <p:nvPr/>
        </p:nvPicPr>
        <p:blipFill>
          <a:blip r:embed="rId1"/>
          <a:stretch/>
        </p:blipFill>
        <p:spPr>
          <a:xfrm>
            <a:off x="841320" y="324000"/>
            <a:ext cx="799164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0c"/>
          <p:cNvPicPr/>
          <p:nvPr/>
        </p:nvPicPr>
        <p:blipFill>
          <a:blip r:embed="rId2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00160" y="121932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58960" y="340524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5392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9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944880" y="91584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828800" y="6248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7-01-26T09:14:22Z</dcterms:modified>
  <cp:revision>296</cp:revision>
  <dc:subject/>
  <dc:title>The Roots of Astronomy</dc:title>
</cp:coreProperties>
</file>